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7E01-252E-4730-B096-28617227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2E3D-34D6-465A-A40B-7838FC6A82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E4E7-8A14-4530-AF3A-A21DAD75EB7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721-2630-42F4-8C2F-09383337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6E5-1C77-4F17-92AB-B682E732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848-D343-428A-8C54-352EE709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05B-D650-4BBA-A360-6FE3251B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F02-C191-40A8-A797-AE67C6FB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E1E-078B-4651-A3A0-E1406518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406-952F-4C55-B507-A208785B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B63-8D17-43B8-A1E7-338F7CA1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D0C-9316-4AD3-AF61-3CE640CC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9091-76D9-439F-A5D6-A3427FF7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AA9-BA30-43A9-A3A3-86C30E0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F24-EF45-4D11-8017-D15BB7F9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12DD-D115-4061-892B-44697451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66680" y="2286000"/>
            <a:ext cx="61628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正比例（一）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84360" y="404640"/>
            <a:ext cx="8459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两种相依变化的量，如果它们相对应的两个数的比值（也就是商）一定，这两种量就叫做成正比例的量，它们的关系叫做正比例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4360" y="3213000"/>
            <a:ext cx="8459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用字母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表示两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相依变化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量，用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表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比值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定），正比例关系可以概括城下面的式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0"/>
          <p:cNvGrpSpPr/>
          <p:nvPr/>
        </p:nvGrpSpPr>
        <p:grpSpPr>
          <a:xfrm>
            <a:off x="2660760" y="5087880"/>
            <a:ext cx="3483000" cy="1542960"/>
            <a:chOff x="2660760" y="5087880"/>
            <a:chExt cx="3483000" cy="1542960"/>
          </a:xfrm>
        </p:grpSpPr>
        <mc:AlternateContent>
          <mc:Choice xmlns:a14="http://schemas.microsoft.com/office/drawing/2010/main" Requires="a14">
            <p:sp>
              <p:nvSpPr>
                <p:cNvPr id="119" name="Object 5"/>
                <p:cNvSpPr txBox="1"/>
                <p:nvPr/>
              </p:nvSpPr>
              <p:spPr>
                <a:xfrm>
                  <a:off x="2660760" y="5087880"/>
                  <a:ext cx="608040" cy="15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Text Box 9"/>
            <p:cNvSpPr/>
            <p:nvPr/>
          </p:nvSpPr>
          <p:spPr>
            <a:xfrm>
              <a:off x="3335400" y="557208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一定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Users\phcui\Desktop\西南师大数学6B(2014.12第1版)\西南6B\正文(44)o2.png"/>
          <p:cNvPicPr/>
          <p:nvPr/>
        </p:nvPicPr>
        <p:blipFill>
          <a:blip r:embed="rId1"/>
          <a:stretch/>
        </p:blipFill>
        <p:spPr>
          <a:xfrm>
            <a:off x="5665680" y="341280"/>
            <a:ext cx="3478320" cy="1695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phcui\Desktop\西南师大数学6B(2014.12第1版)\西南6B\正文(44)01.png"/>
          <p:cNvPicPr/>
          <p:nvPr/>
        </p:nvPicPr>
        <p:blipFill>
          <a:blip r:embed="rId2"/>
          <a:stretch/>
        </p:blipFill>
        <p:spPr>
          <a:xfrm>
            <a:off x="3059280" y="692280"/>
            <a:ext cx="1758960" cy="2809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509760" y="169920"/>
            <a:ext cx="73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练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李老师应该付给邮局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2717640" y="2757600"/>
            <a:ext cx="71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王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503600" y="2759040"/>
            <a:ext cx="71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李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1357200" y="407196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李老师应该付给邮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774880" y="4573440"/>
            <a:ext cx="225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: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2892600" y="49798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×8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852640" y="5394240"/>
            <a:ext cx="22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2332080" y="604836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李老师应该付给邮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标注 17"/>
          <p:cNvSpPr/>
          <p:nvPr/>
        </p:nvSpPr>
        <p:spPr>
          <a:xfrm>
            <a:off x="214200" y="1824120"/>
            <a:ext cx="2556000" cy="1638360"/>
          </a:xfrm>
          <a:prstGeom prst="wedgeRoundRectCallout">
            <a:avLst>
              <a:gd name="adj1" fmla="val 49953"/>
              <a:gd name="adj2" fmla="val -67467"/>
              <a:gd name="adj3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们班订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国少年报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一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标注 1"/>
          <p:cNvSpPr/>
          <p:nvPr/>
        </p:nvSpPr>
        <p:spPr>
          <a:xfrm>
            <a:off x="5106960" y="2097000"/>
            <a:ext cx="2516040" cy="1260720"/>
          </a:xfrm>
          <a:prstGeom prst="wedgeRoundRectCallout">
            <a:avLst>
              <a:gd name="adj1" fmla="val -50828"/>
              <a:gd name="adj2" fmla="val -96476"/>
              <a:gd name="adj3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我们班订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国少年报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936720" y="1636560"/>
          <a:ext cx="6840360" cy="965520"/>
        </p:xfrm>
        <a:graphic>
          <a:graphicData uri="http://schemas.openxmlformats.org/drawingml/2006/table">
            <a:tbl>
              <a:tblPr/>
              <a:tblGrid>
                <a:gridCol w="2736720"/>
                <a:gridCol w="719280"/>
                <a:gridCol w="647640"/>
                <a:gridCol w="720720"/>
                <a:gridCol w="720720"/>
                <a:gridCol w="647640"/>
                <a:gridCol w="647640"/>
              </a:tblGrid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f0f8f9"/>
                    </a:solidFill>
                  </a:tcPr>
                </a:tc>
              </a:tr>
            </a:tbl>
          </a:graphicData>
        </a:graphic>
      </p:graphicFrame>
      <p:grpSp>
        <p:nvGrpSpPr>
          <p:cNvPr id="134" name="组合 11"/>
          <p:cNvGrpSpPr/>
          <p:nvPr/>
        </p:nvGrpSpPr>
        <p:grpSpPr>
          <a:xfrm>
            <a:off x="792000" y="1590840"/>
            <a:ext cx="7056720" cy="1424880"/>
            <a:chOff x="792000" y="1590840"/>
            <a:chExt cx="7056720" cy="1424880"/>
          </a:xfrm>
        </p:grpSpPr>
        <p:sp>
          <p:nvSpPr>
            <p:cNvPr id="135" name="TextBox 5"/>
            <p:cNvSpPr/>
            <p:nvPr/>
          </p:nvSpPr>
          <p:spPr>
            <a:xfrm>
              <a:off x="1382400" y="162576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5"/>
            <p:cNvSpPr/>
            <p:nvPr/>
          </p:nvSpPr>
          <p:spPr>
            <a:xfrm>
              <a:off x="792000" y="2114640"/>
              <a:ext cx="288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生产零件数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6"/>
            <p:cNvSpPr/>
            <p:nvPr/>
          </p:nvSpPr>
          <p:spPr>
            <a:xfrm>
              <a:off x="3836880" y="1590840"/>
              <a:ext cx="4011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    2     4       6     8      …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7"/>
            <p:cNvSpPr/>
            <p:nvPr/>
          </p:nvSpPr>
          <p:spPr>
            <a:xfrm>
              <a:off x="3671640" y="2068560"/>
              <a:ext cx="417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    50   100  150  200   …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48"/>
          <p:cNvSpPr/>
          <p:nvPr/>
        </p:nvSpPr>
        <p:spPr>
          <a:xfrm>
            <a:off x="639720" y="64152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练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张师傅生产零件的情况如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0" y="2909880"/>
            <a:ext cx="91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写出几组相对应的生产零件数量和时间的比，比较比值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生产零件的数量和时间成正比例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1240200" y="5354640"/>
            <a:ext cx="624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答：生产零件数量和时间成正比例，因为生产零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数量和时间的比值总是一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8"/>
          <p:cNvGrpSpPr/>
          <p:nvPr/>
        </p:nvGrpSpPr>
        <p:grpSpPr>
          <a:xfrm>
            <a:off x="287280" y="3749760"/>
            <a:ext cx="8317080" cy="900360"/>
            <a:chOff x="287280" y="3749760"/>
            <a:chExt cx="8317080" cy="900360"/>
          </a:xfrm>
        </p:grpSpPr>
        <p:grpSp>
          <p:nvGrpSpPr>
            <p:cNvPr id="143" name="组合 3"/>
            <p:cNvGrpSpPr/>
            <p:nvPr/>
          </p:nvGrpSpPr>
          <p:grpSpPr>
            <a:xfrm>
              <a:off x="287280" y="3749760"/>
              <a:ext cx="8317080" cy="900360"/>
              <a:chOff x="287280" y="3749760"/>
              <a:chExt cx="8317080" cy="900360"/>
            </a:xfrm>
          </p:grpSpPr>
          <p:grpSp>
            <p:nvGrpSpPr>
              <p:cNvPr id="144" name="组合 68"/>
              <p:cNvGrpSpPr/>
              <p:nvPr/>
            </p:nvGrpSpPr>
            <p:grpSpPr>
              <a:xfrm>
                <a:off x="287280" y="3772440"/>
                <a:ext cx="2557080" cy="877680"/>
                <a:chOff x="287280" y="3772440"/>
                <a:chExt cx="2557080" cy="877680"/>
              </a:xfrm>
            </p:grpSpPr>
            <p:sp>
              <p:nvSpPr>
                <p:cNvPr id="145" name="矩形 24"/>
                <p:cNvSpPr/>
                <p:nvPr/>
              </p:nvSpPr>
              <p:spPr>
                <a:xfrm>
                  <a:off x="287280" y="3916080"/>
                  <a:ext cx="255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答：</a:t>
                  </a: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           </a:t>
                  </a: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25</a:t>
                  </a:r>
                  <a:r>
                    <a:rPr b="1" lang="zh-CN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矩形 88"/>
                <p:cNvSpPr/>
                <p:nvPr/>
              </p:nvSpPr>
              <p:spPr>
                <a:xfrm>
                  <a:off x="1023120" y="3772440"/>
                  <a:ext cx="994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矩形 96"/>
                <p:cNvSpPr/>
                <p:nvPr/>
              </p:nvSpPr>
              <p:spPr>
                <a:xfrm>
                  <a:off x="1128960" y="4129560"/>
                  <a:ext cx="92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矩形 26"/>
                <p:cNvSpPr/>
                <p:nvPr/>
              </p:nvSpPr>
              <p:spPr>
                <a:xfrm>
                  <a:off x="1695600" y="3904560"/>
                  <a:ext cx="397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=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组合 68"/>
              <p:cNvGrpSpPr/>
              <p:nvPr/>
            </p:nvGrpSpPr>
            <p:grpSpPr>
              <a:xfrm>
                <a:off x="2986560" y="3772440"/>
                <a:ext cx="1820880" cy="877680"/>
                <a:chOff x="2986560" y="3772440"/>
                <a:chExt cx="1820880" cy="877680"/>
              </a:xfrm>
            </p:grpSpPr>
            <p:sp>
              <p:nvSpPr>
                <p:cNvPr id="150" name="矩形 88"/>
                <p:cNvSpPr/>
                <p:nvPr/>
              </p:nvSpPr>
              <p:spPr>
                <a:xfrm>
                  <a:off x="2986560" y="3772440"/>
                  <a:ext cx="994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矩形 101"/>
                <p:cNvSpPr/>
                <p:nvPr/>
              </p:nvSpPr>
              <p:spPr>
                <a:xfrm>
                  <a:off x="3092040" y="4129560"/>
                  <a:ext cx="92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矩形 24"/>
                <p:cNvSpPr/>
                <p:nvPr/>
              </p:nvSpPr>
              <p:spPr>
                <a:xfrm>
                  <a:off x="4046760" y="3916080"/>
                  <a:ext cx="760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25</a:t>
                  </a:r>
                  <a:r>
                    <a:rPr b="1" lang="zh-CN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矩形 26"/>
                <p:cNvSpPr/>
                <p:nvPr/>
              </p:nvSpPr>
              <p:spPr>
                <a:xfrm>
                  <a:off x="3659040" y="3904560"/>
                  <a:ext cx="397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=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组合 68"/>
              <p:cNvGrpSpPr/>
              <p:nvPr/>
            </p:nvGrpSpPr>
            <p:grpSpPr>
              <a:xfrm>
                <a:off x="4788360" y="3749760"/>
                <a:ext cx="3816000" cy="877680"/>
                <a:chOff x="4788360" y="3749760"/>
                <a:chExt cx="3816000" cy="877680"/>
              </a:xfrm>
            </p:grpSpPr>
            <p:sp>
              <p:nvSpPr>
                <p:cNvPr id="155" name="矩形 88"/>
                <p:cNvSpPr/>
                <p:nvPr/>
              </p:nvSpPr>
              <p:spPr>
                <a:xfrm>
                  <a:off x="4788360" y="3749760"/>
                  <a:ext cx="994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矩形 106"/>
                <p:cNvSpPr/>
                <p:nvPr/>
              </p:nvSpPr>
              <p:spPr>
                <a:xfrm>
                  <a:off x="4893840" y="4106880"/>
                  <a:ext cx="923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矩形 24"/>
                <p:cNvSpPr/>
                <p:nvPr/>
              </p:nvSpPr>
              <p:spPr>
                <a:xfrm>
                  <a:off x="5848560" y="3894120"/>
                  <a:ext cx="275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25</a:t>
                  </a:r>
                  <a:r>
                    <a:rPr b="1" lang="zh-CN" sz="28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，比值相等。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矩形 26"/>
                <p:cNvSpPr/>
                <p:nvPr/>
              </p:nvSpPr>
              <p:spPr>
                <a:xfrm>
                  <a:off x="5460480" y="3881880"/>
                  <a:ext cx="3970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70c0"/>
                      </a:solidFill>
                      <a:latin typeface="Times New Roman"/>
                      <a:ea typeface="Times New Roman"/>
                    </a:rPr>
                    <a:t>=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" name="直接连接符 2"/>
            <p:cNvSpPr/>
            <p:nvPr/>
          </p:nvSpPr>
          <p:spPr>
            <a:xfrm>
              <a:off x="1128600" y="4221360"/>
              <a:ext cx="39204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28"/>
            <p:cNvSpPr/>
            <p:nvPr/>
          </p:nvSpPr>
          <p:spPr>
            <a:xfrm>
              <a:off x="3092400" y="4221360"/>
              <a:ext cx="39204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29"/>
            <p:cNvSpPr/>
            <p:nvPr/>
          </p:nvSpPr>
          <p:spPr>
            <a:xfrm>
              <a:off x="4971960" y="4189320"/>
              <a:ext cx="39204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两个量是不是成正比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看是不是相关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看是不是能变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看是不是商一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838080" y="68580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回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比例是表示两个比相等的式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在一个比例中，两端的两项叫做比例的外项，中间的两项叫做比例的内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在一个比例中，两个外项的积等于两个內项的积，这叫做比例的基本性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高速列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行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米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行驶多少千米？三分钟、四分钟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473120" y="1873080"/>
          <a:ext cx="4622760" cy="29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873080"/>
                    <a:ext cx="4622760" cy="29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图表 5120"/>
          <p:cNvGraphicFramePr/>
          <p:nvPr/>
        </p:nvGraphicFramePr>
        <p:xfrm>
          <a:off x="939960" y="1366920"/>
          <a:ext cx="6806880" cy="485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" name="图表 51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366920"/>
                    <a:ext cx="680688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838080" y="914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哪两种量是相依变化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时间发生变化时，路程怎样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66640" y="2917800"/>
          <a:ext cx="6934320" cy="741240"/>
        </p:xfrm>
        <a:graphic>
          <a:graphicData uri="http://schemas.openxmlformats.org/drawingml/2006/table">
            <a:tbl>
              <a:tblPr/>
              <a:tblGrid>
                <a:gridCol w="1219320"/>
                <a:gridCol w="687240"/>
                <a:gridCol w="779760"/>
                <a:gridCol w="780840"/>
                <a:gridCol w="866880"/>
                <a:gridCol w="866880"/>
                <a:gridCol w="866520"/>
                <a:gridCol w="8668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时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57" name="文本框 3"/>
          <p:cNvSpPr/>
          <p:nvPr/>
        </p:nvSpPr>
        <p:spPr>
          <a:xfrm>
            <a:off x="838080" y="18684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b6bc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b6bcf"/>
                </a:solidFill>
                <a:latin typeface="Times New Roman"/>
              </a:rPr>
              <a:t>）时间和路程是相依变化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b6bc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b6bcf"/>
                </a:solidFill>
                <a:latin typeface="Times New Roman"/>
              </a:rPr>
              <a:t>）路程＝时间</a:t>
            </a: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4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1952640" cy="25239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" descr=""/>
          <p:cNvPicPr/>
          <p:nvPr/>
        </p:nvPicPr>
        <p:blipFill>
          <a:blip r:embed="rId2"/>
          <a:stretch/>
        </p:blipFill>
        <p:spPr>
          <a:xfrm>
            <a:off x="7286760" y="4226040"/>
            <a:ext cx="1276200" cy="2466720"/>
          </a:xfrm>
          <a:prstGeom prst="rect">
            <a:avLst/>
          </a:prstGeom>
          <a:ln w="0">
            <a:noFill/>
          </a:ln>
        </p:spPr>
      </p:pic>
      <p:sp>
        <p:nvSpPr>
          <p:cNvPr id="60" name="椭圆形标注 6"/>
          <p:cNvSpPr/>
          <p:nvPr/>
        </p:nvSpPr>
        <p:spPr>
          <a:xfrm>
            <a:off x="2254320" y="3808440"/>
            <a:ext cx="2222280" cy="2700360"/>
          </a:xfrm>
          <a:prstGeom prst="wedgeEllipseCallout">
            <a:avLst>
              <a:gd name="adj1" fmla="val -68509"/>
              <a:gd name="adj2" fmla="val 8856"/>
            </a:avLst>
          </a:prstGeom>
          <a:gradFill rotWithShape="0">
            <a:gsLst>
              <a:gs pos="0">
                <a:srgbClr val="e2f1f3"/>
              </a:gs>
              <a:gs pos="100000">
                <a:srgbClr val="bed5d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形标注 7"/>
          <p:cNvSpPr/>
          <p:nvPr/>
        </p:nvSpPr>
        <p:spPr>
          <a:xfrm>
            <a:off x="4616280" y="3781440"/>
            <a:ext cx="2470320" cy="2238480"/>
          </a:xfrm>
          <a:prstGeom prst="wedgeEllipseCallout">
            <a:avLst>
              <a:gd name="adj1" fmla="val 61175"/>
              <a:gd name="adj2" fmla="val 13768"/>
            </a:avLst>
          </a:prstGeom>
          <a:gradFill rotWithShape="0">
            <a:gsLst>
              <a:gs pos="0">
                <a:srgbClr val="e2f1f3"/>
              </a:gs>
              <a:gs pos="100000">
                <a:srgbClr val="bed5d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8"/>
          <p:cNvSpPr/>
          <p:nvPr/>
        </p:nvSpPr>
        <p:spPr>
          <a:xfrm>
            <a:off x="2398680" y="4387680"/>
            <a:ext cx="21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时间是原来的几倍，路程也是原来的几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9"/>
          <p:cNvSpPr/>
          <p:nvPr/>
        </p:nvSpPr>
        <p:spPr>
          <a:xfrm>
            <a:off x="4541760" y="3992400"/>
            <a:ext cx="267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时间是原来的几分之一，路程也是原来的几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"/>
          <p:cNvSpPr/>
          <p:nvPr/>
        </p:nvSpPr>
        <p:spPr>
          <a:xfrm>
            <a:off x="45720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相对应的路程各是多少千米？分别求出各组路程与时间这两个数的比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914400" y="199404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钟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钟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钟分别对应的路程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千米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千米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千米，分别对应的比值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/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    20/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    30/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47720" y="39085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比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哪一种量？这种量有没有变化？你能写出数量关系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文本框 4" descr=""/>
          <p:cNvPicPr/>
          <p:nvPr/>
        </p:nvPicPr>
        <p:blipFill>
          <a:blip r:embed="rId1"/>
          <a:stretch/>
        </p:blipFill>
        <p:spPr>
          <a:xfrm>
            <a:off x="774720" y="4919760"/>
            <a:ext cx="7010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85880" y="1297080"/>
          <a:ext cx="7786800" cy="1066680"/>
        </p:xfrm>
        <a:graphic>
          <a:graphicData uri="http://schemas.openxmlformats.org/drawingml/2006/table">
            <a:tbl>
              <a:tblPr/>
              <a:tblGrid>
                <a:gridCol w="2571840"/>
                <a:gridCol w="928440"/>
                <a:gridCol w="928800"/>
                <a:gridCol w="857160"/>
                <a:gridCol w="857160"/>
                <a:gridCol w="928800"/>
                <a:gridCol w="71460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13"/>
          <p:cNvSpPr/>
          <p:nvPr/>
        </p:nvSpPr>
        <p:spPr>
          <a:xfrm>
            <a:off x="357120" y="51120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练习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淘气的身高随年龄变化情况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93"/>
          <p:cNvGrpSpPr/>
          <p:nvPr/>
        </p:nvGrpSpPr>
        <p:grpSpPr>
          <a:xfrm>
            <a:off x="714240" y="1344600"/>
            <a:ext cx="8072640" cy="1046160"/>
            <a:chOff x="714240" y="1344600"/>
            <a:chExt cx="8072640" cy="1046160"/>
          </a:xfrm>
        </p:grpSpPr>
        <p:sp>
          <p:nvSpPr>
            <p:cNvPr id="71" name="TextBox 5"/>
            <p:cNvSpPr/>
            <p:nvPr/>
          </p:nvSpPr>
          <p:spPr>
            <a:xfrm>
              <a:off x="784080" y="1344600"/>
              <a:ext cx="271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淘气的年龄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80"/>
            <p:cNvSpPr/>
            <p:nvPr/>
          </p:nvSpPr>
          <p:spPr>
            <a:xfrm>
              <a:off x="714240" y="1870200"/>
              <a:ext cx="27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淘气的身高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82"/>
            <p:cNvSpPr/>
            <p:nvPr/>
          </p:nvSpPr>
          <p:spPr>
            <a:xfrm>
              <a:off x="3643200" y="1368360"/>
              <a:ext cx="500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        5        6       7        8        9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83"/>
            <p:cNvSpPr/>
            <p:nvPr/>
          </p:nvSpPr>
          <p:spPr>
            <a:xfrm>
              <a:off x="3571920" y="184644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      53      55     57      60      6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13"/>
          <p:cNvSpPr/>
          <p:nvPr/>
        </p:nvSpPr>
        <p:spPr>
          <a:xfrm>
            <a:off x="214200" y="274320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淘气的年龄和身高成正比例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100"/>
          <p:cNvGrpSpPr/>
          <p:nvPr/>
        </p:nvGrpSpPr>
        <p:grpSpPr>
          <a:xfrm>
            <a:off x="142920" y="3559320"/>
            <a:ext cx="8572320" cy="1460880"/>
            <a:chOff x="142920" y="3559320"/>
            <a:chExt cx="8572320" cy="1460880"/>
          </a:xfrm>
        </p:grpSpPr>
        <p:sp>
          <p:nvSpPr>
            <p:cNvPr id="77" name="TextBox 61"/>
            <p:cNvSpPr/>
            <p:nvPr/>
          </p:nvSpPr>
          <p:spPr>
            <a:xfrm>
              <a:off x="142920" y="3559320"/>
              <a:ext cx="8572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答：淘气的年龄和身高不成正比例，因为他们的比例值不相等，例如       与      不相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组合 99"/>
            <p:cNvGrpSpPr/>
            <p:nvPr/>
          </p:nvGrpSpPr>
          <p:grpSpPr>
            <a:xfrm>
              <a:off x="2847960" y="3916800"/>
              <a:ext cx="2663640" cy="1103400"/>
              <a:chOff x="2847960" y="3916800"/>
              <a:chExt cx="2663640" cy="1103400"/>
            </a:xfrm>
          </p:grpSpPr>
          <p:grpSp>
            <p:nvGrpSpPr>
              <p:cNvPr id="79" name="组合 68"/>
              <p:cNvGrpSpPr/>
              <p:nvPr/>
            </p:nvGrpSpPr>
            <p:grpSpPr>
              <a:xfrm>
                <a:off x="2847960" y="3916800"/>
                <a:ext cx="1347480" cy="1041480"/>
                <a:chOff x="2847960" y="3916800"/>
                <a:chExt cx="1347480" cy="1041480"/>
              </a:xfrm>
            </p:grpSpPr>
            <p:sp>
              <p:nvSpPr>
                <p:cNvPr id="80" name="矩形 88"/>
                <p:cNvSpPr/>
                <p:nvPr/>
              </p:nvSpPr>
              <p:spPr>
                <a:xfrm>
                  <a:off x="2847960" y="3916800"/>
                  <a:ext cx="571320" cy="73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4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矩形 89"/>
                <p:cNvSpPr/>
                <p:nvPr/>
              </p:nvSpPr>
              <p:spPr>
                <a:xfrm>
                  <a:off x="2847960" y="4224600"/>
                  <a:ext cx="723600" cy="73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矩形 24"/>
                <p:cNvSpPr/>
                <p:nvPr/>
              </p:nvSpPr>
              <p:spPr>
                <a:xfrm>
                  <a:off x="3624120" y="4059000"/>
                  <a:ext cx="571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组合 97"/>
              <p:cNvGrpSpPr/>
              <p:nvPr/>
            </p:nvGrpSpPr>
            <p:grpSpPr>
              <a:xfrm>
                <a:off x="4788000" y="3916800"/>
                <a:ext cx="723600" cy="1103400"/>
                <a:chOff x="4788000" y="3916800"/>
                <a:chExt cx="723600" cy="1103400"/>
              </a:xfrm>
            </p:grpSpPr>
            <p:sp>
              <p:nvSpPr>
                <p:cNvPr id="84" name="矩形 88"/>
                <p:cNvSpPr/>
                <p:nvPr/>
              </p:nvSpPr>
              <p:spPr>
                <a:xfrm>
                  <a:off x="4788000" y="3916800"/>
                  <a:ext cx="571320" cy="73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8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矩形 96"/>
                <p:cNvSpPr/>
                <p:nvPr/>
              </p:nvSpPr>
              <p:spPr>
                <a:xfrm>
                  <a:off x="4788000" y="4286520"/>
                  <a:ext cx="723600" cy="73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1280" y="351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某工厂洗衣机的生产情况如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57080" y="1700280"/>
          <a:ext cx="5034240" cy="4113000"/>
        </p:xfrm>
        <a:graphic>
          <a:graphicData uri="http://schemas.openxmlformats.org/drawingml/2006/table">
            <a:tbl>
              <a:tblPr/>
              <a:tblGrid>
                <a:gridCol w="2367000"/>
                <a:gridCol w="26672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量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900000" y="8571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哪两种量是相依变化的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84360" y="17924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产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00000" y="2714760"/>
            <a:ext cx="799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写出几组这两种量中相对应的两个数的比，求出比值，并比较比值的大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786040" y="47862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4929120" y="4786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24"/>
          <p:cNvGrpSpPr/>
          <p:nvPr/>
        </p:nvGrpSpPr>
        <p:grpSpPr>
          <a:xfrm>
            <a:off x="1714680" y="4449600"/>
            <a:ext cx="738000" cy="2193840"/>
            <a:chOff x="1714680" y="4449600"/>
            <a:chExt cx="738000" cy="2193840"/>
          </a:xfrm>
        </p:grpSpPr>
        <mc:AlternateContent>
          <mc:Choice xmlns:a14="http://schemas.microsoft.com/office/drawing/2010/main" Requires="a14">
            <p:sp>
              <p:nvSpPr>
                <p:cNvPr id="94" name="Object 8"/>
                <p:cNvSpPr txBox="1"/>
                <p:nvPr/>
              </p:nvSpPr>
              <p:spPr>
                <a:xfrm>
                  <a:off x="1728720" y="4449600"/>
                  <a:ext cx="701640" cy="13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95" name="组合 17"/>
            <p:cNvGrpSpPr/>
            <p:nvPr/>
          </p:nvGrpSpPr>
          <p:grpSpPr>
            <a:xfrm>
              <a:off x="1714680" y="5715000"/>
              <a:ext cx="738000" cy="928440"/>
              <a:chOff x="1714680" y="5715000"/>
              <a:chExt cx="738000" cy="928440"/>
            </a:xfrm>
          </p:grpSpPr>
          <p:sp>
            <p:nvSpPr>
              <p:cNvPr id="96" name="TextBox 15"/>
              <p:cNvSpPr/>
              <p:nvPr/>
            </p:nvSpPr>
            <p:spPr>
              <a:xfrm>
                <a:off x="1723680" y="5715000"/>
                <a:ext cx="7290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16"/>
              <p:cNvSpPr/>
              <p:nvPr/>
            </p:nvSpPr>
            <p:spPr>
              <a:xfrm>
                <a:off x="1714680" y="6000840"/>
                <a:ext cx="64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组合 25"/>
          <p:cNvGrpSpPr/>
          <p:nvPr/>
        </p:nvGrpSpPr>
        <p:grpSpPr>
          <a:xfrm>
            <a:off x="3643200" y="4449600"/>
            <a:ext cx="738360" cy="2190600"/>
            <a:chOff x="3643200" y="4449600"/>
            <a:chExt cx="738360" cy="2190600"/>
          </a:xfrm>
        </p:grpSpPr>
        <mc:AlternateContent>
          <mc:Choice xmlns:a14="http://schemas.microsoft.com/office/drawing/2010/main" Requires="a14">
            <p:sp>
              <p:nvSpPr>
                <p:cNvPr id="99" name="Object 13"/>
                <p:cNvSpPr txBox="1"/>
                <p:nvPr/>
              </p:nvSpPr>
              <p:spPr>
                <a:xfrm>
                  <a:off x="3679560" y="4449600"/>
                  <a:ext cx="697320" cy="132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00" name="组合 18"/>
            <p:cNvGrpSpPr/>
            <p:nvPr/>
          </p:nvGrpSpPr>
          <p:grpSpPr>
            <a:xfrm>
              <a:off x="3643200" y="5711760"/>
              <a:ext cx="738360" cy="928440"/>
              <a:chOff x="3643200" y="5711760"/>
              <a:chExt cx="738360" cy="928440"/>
            </a:xfrm>
          </p:grpSpPr>
          <p:sp>
            <p:nvSpPr>
              <p:cNvPr id="101" name="TextBox 19"/>
              <p:cNvSpPr/>
              <p:nvPr/>
            </p:nvSpPr>
            <p:spPr>
              <a:xfrm>
                <a:off x="3652560" y="5711760"/>
                <a:ext cx="7290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20"/>
              <p:cNvSpPr/>
              <p:nvPr/>
            </p:nvSpPr>
            <p:spPr>
              <a:xfrm>
                <a:off x="3643200" y="5997600"/>
                <a:ext cx="64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组合 27"/>
          <p:cNvGrpSpPr/>
          <p:nvPr/>
        </p:nvGrpSpPr>
        <p:grpSpPr>
          <a:xfrm>
            <a:off x="5697360" y="4449600"/>
            <a:ext cx="944640" cy="2190240"/>
            <a:chOff x="5697360" y="4449600"/>
            <a:chExt cx="944640" cy="2190240"/>
          </a:xfrm>
        </p:grpSpPr>
        <mc:AlternateContent>
          <mc:Choice xmlns:a14="http://schemas.microsoft.com/office/drawing/2010/main" Requires="a14">
            <p:sp>
              <p:nvSpPr>
                <p:cNvPr id="104" name="Object 18"/>
                <p:cNvSpPr txBox="1"/>
                <p:nvPr/>
              </p:nvSpPr>
              <p:spPr>
                <a:xfrm>
                  <a:off x="5697360" y="4449600"/>
                  <a:ext cx="944640" cy="133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05" name="组合 21"/>
            <p:cNvGrpSpPr/>
            <p:nvPr/>
          </p:nvGrpSpPr>
          <p:grpSpPr>
            <a:xfrm>
              <a:off x="5833440" y="5715000"/>
              <a:ext cx="738720" cy="924840"/>
              <a:chOff x="5833440" y="5715000"/>
              <a:chExt cx="738720" cy="924840"/>
            </a:xfrm>
          </p:grpSpPr>
          <p:sp>
            <p:nvSpPr>
              <p:cNvPr id="106" name="TextBox 22"/>
              <p:cNvSpPr/>
              <p:nvPr/>
            </p:nvSpPr>
            <p:spPr>
              <a:xfrm>
                <a:off x="5843160" y="5715000"/>
                <a:ext cx="7290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23"/>
              <p:cNvSpPr/>
              <p:nvPr/>
            </p:nvSpPr>
            <p:spPr>
              <a:xfrm>
                <a:off x="5833440" y="5997240"/>
                <a:ext cx="642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187280" y="765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说明这个比值表示的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340000" y="4730760"/>
            <a:ext cx="6270120" cy="1579320"/>
            <a:chOff x="2340000" y="4730760"/>
            <a:chExt cx="6270120" cy="1579320"/>
          </a:xfrm>
        </p:grpSpPr>
        <p:sp>
          <p:nvSpPr>
            <p:cNvPr id="110" name="Text Box 5"/>
            <p:cNvSpPr/>
            <p:nvPr/>
          </p:nvSpPr>
          <p:spPr>
            <a:xfrm>
              <a:off x="2340000" y="4730760"/>
              <a:ext cx="223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工作总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2340000" y="5522760"/>
              <a:ext cx="208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2340000" y="5667480"/>
              <a:ext cx="238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工作时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4503960" y="5162400"/>
              <a:ext cx="410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工作效率（一定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2"/>
          <p:cNvSpPr/>
          <p:nvPr/>
        </p:nvSpPr>
        <p:spPr>
          <a:xfrm>
            <a:off x="1590840" y="1844640"/>
            <a:ext cx="67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增加，所生产的洗衣机产量也相应增加，而且产量与时间的比值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826920" y="3933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就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05:28:12Z</dcterms:created>
  <dc:creator/>
  <dc:description/>
  <cp:keywords/>
  <dc:language>en-US</dc:language>
  <cp:lastModifiedBy/>
  <dcterms:modified xsi:type="dcterms:W3CDTF">2015-05-14T05:28:19Z</dcterms:modified>
  <cp:revision>1</cp:revision>
  <dc:subject/>
  <dc:title/>
</cp:coreProperties>
</file>